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F281-4806-44E0-ADE8-D202F629A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3C76-EA58-4384-A360-841D5A551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0F07-2ABF-4303-B7DE-11C7BA494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0DC7-1E84-45B5-B5DD-7E1FDA114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2126-896E-4769-83FF-1AE44A2F6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C1D2-2D4D-41D6-9942-B13B9E40F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FE3F-8F95-457D-962D-EB6C40CCD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658A-D6F7-4E25-8961-B20C89D6E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29EF-98FF-4522-AC5B-D968EA5C3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D8B2-9271-43E7-9A10-71DF5D05A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DBDA-DF6C-46CB-8EC8-66BEEEAF7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CFF1-0960-4984-B2CC-7F73F1ADC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45960" indent="-231480">
              <a:spcBef>
                <a:spcPts val="451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627120" indent="-166680">
              <a:spcBef>
                <a:spcPts val="451"/>
              </a:spcBef>
              <a:buClr>
                <a:srgbClr val="0066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147680" indent="-404640">
              <a:spcBef>
                <a:spcPts val="451"/>
              </a:spcBef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539720" indent="-169560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539720" indent="-169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539720" indent="-169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7754-B9C6-4267-801E-450198E6D6D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pic>
        <p:nvPicPr>
          <p:cNvPr id="41" name="datinfo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234144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9" idx="0"/>
            <a:endCxn id="80" idx="4"/>
          </p:cNvCxnSpPr>
          <p:nvPr/>
        </p:nvCxnSpPr>
        <p:spPr>
          <a:xfrm flipV="1">
            <a:off x="2438640" y="1373040"/>
            <a:ext cx="3240" cy="2818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3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0" idx="5"/>
            <a:endCxn id="83" idx="1"/>
          </p:cNvCxnSpPr>
          <p:nvPr/>
        </p:nvCxnSpPr>
        <p:spPr>
          <a:xfrm>
            <a:off x="2549160" y="1328400"/>
            <a:ext cx="1762920" cy="113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0" idx="6"/>
            <a:endCxn id="85" idx="1"/>
          </p:cNvCxnSpPr>
          <p:nvPr/>
        </p:nvCxnSpPr>
        <p:spPr>
          <a:xfrm>
            <a:off x="2593800" y="1219680"/>
            <a:ext cx="2785320" cy="1241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0" idx="4"/>
            <a:endCxn id="81" idx="1"/>
          </p:cNvCxnSpPr>
          <p:nvPr/>
        </p:nvCxnSpPr>
        <p:spPr>
          <a:xfrm>
            <a:off x="2441520" y="1373040"/>
            <a:ext cx="575280" cy="1088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88" idx="2"/>
            <a:endCxn id="87" idx="6"/>
          </p:cNvCxnSpPr>
          <p:nvPr/>
        </p:nvCxnSpPr>
        <p:spPr>
          <a:xfrm flipH="1">
            <a:off x="3276720" y="3429000"/>
            <a:ext cx="99072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88" idx="3"/>
            <a:endCxn id="79" idx="6"/>
          </p:cNvCxnSpPr>
          <p:nvPr/>
        </p:nvCxnSpPr>
        <p:spPr>
          <a:xfrm flipH="1">
            <a:off x="2590920" y="3536640"/>
            <a:ext cx="1721160" cy="80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9" idx="7"/>
            <a:endCxn id="87" idx="3"/>
          </p:cNvCxnSpPr>
          <p:nvPr/>
        </p:nvCxnSpPr>
        <p:spPr>
          <a:xfrm flipV="1">
            <a:off x="2546280" y="3536640"/>
            <a:ext cx="470520" cy="699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8" idx="7"/>
            <a:endCxn id="85" idx="3"/>
          </p:cNvCxnSpPr>
          <p:nvPr/>
        </p:nvCxnSpPr>
        <p:spPr>
          <a:xfrm flipV="1">
            <a:off x="4527360" y="2676240"/>
            <a:ext cx="851760" cy="645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6E17-80BB-402A-8EF2-747535A837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"/>
          <p:cNvCxnSpPr>
            <a:stCxn id="340" idx="0"/>
            <a:endCxn id="341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"/>
          <p:cNvCxnSpPr>
            <a:stCxn id="341" idx="5"/>
            <a:endCxn id="344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34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1" idx="6"/>
            <a:endCxn id="346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"/>
          <p:cNvCxnSpPr>
            <a:stCxn id="341" idx="4"/>
            <a:endCxn id="342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351" name=""/>
          <p:cNvCxnSpPr>
            <a:stCxn id="349" idx="2"/>
            <a:endCxn id="34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52" name=""/>
          <p:cNvCxnSpPr>
            <a:stCxn id="349" idx="3"/>
            <a:endCxn id="34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40" idx="7"/>
            <a:endCxn id="34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354" name=""/>
          <p:cNvCxnSpPr>
            <a:stCxn id="349" idx="7"/>
            <a:endCxn id="34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B C G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"/>
          <p:cNvCxnSpPr>
            <a:stCxn id="340" idx="6"/>
            <a:endCxn id="349" idx="3"/>
          </p:cNvCxnSpPr>
          <p:nvPr/>
        </p:nvCxnSpPr>
        <p:spPr>
          <a:xfrm flipV="1">
            <a:off x="2598840" y="3544560"/>
            <a:ext cx="1713600" cy="79920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cxnSp>
        <p:nvCxnSpPr>
          <p:cNvPr id="362" name=""/>
          <p:cNvCxnSpPr>
            <a:stCxn id="349" idx="6"/>
            <a:endCxn id="355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262400" y="2984400"/>
            <a:ext cx="304920" cy="600120"/>
            <a:chOff x="4262400" y="2984400"/>
            <a:chExt cx="304920" cy="600120"/>
          </a:xfrm>
        </p:grpSpPr>
        <p:sp>
          <p:nvSpPr>
            <p:cNvPr id="370" name=""/>
            <p:cNvSpPr/>
            <p:nvPr/>
          </p:nvSpPr>
          <p:spPr>
            <a:xfrm>
              <a:off x="4262400" y="32796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62400" y="298440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E295-C3A6-4E24-B0FE-D73C0B2819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"/>
          <p:cNvCxnSpPr>
            <a:stCxn id="374" idx="0"/>
            <a:endCxn id="375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"/>
          <p:cNvCxnSpPr>
            <a:stCxn id="375" idx="5"/>
            <a:endCxn id="378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"/>
          <p:cNvCxnSpPr>
            <a:stCxn id="375" idx="6"/>
            <a:endCxn id="380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75" idx="4"/>
            <a:endCxn id="376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385" name=""/>
          <p:cNvCxnSpPr>
            <a:stCxn id="383" idx="2"/>
            <a:endCxn id="38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83" idx="3"/>
            <a:endCxn id="37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387" name=""/>
          <p:cNvCxnSpPr>
            <a:stCxn id="374" idx="7"/>
            <a:endCxn id="38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388" name=""/>
          <p:cNvCxnSpPr>
            <a:stCxn id="383" idx="7"/>
            <a:endCxn id="38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89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B C G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83" idx="6"/>
            <a:endCxn id="389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6" name=""/>
          <p:cNvSpPr/>
          <p:nvPr/>
        </p:nvSpPr>
        <p:spPr>
          <a:xfrm>
            <a:off x="4440240" y="4572000"/>
            <a:ext cx="1295280" cy="685800"/>
          </a:xfrm>
          <a:prstGeom prst="downArrowCallout">
            <a:avLst>
              <a:gd name="adj1" fmla="val 21757"/>
              <a:gd name="adj2" fmla="val 25926"/>
              <a:gd name="adj3" fmla="val 20370"/>
              <a:gd name="adj4" fmla="val 55556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D0B3-6048-43C4-806C-98622B681A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"/>
          <p:cNvCxnSpPr>
            <a:stCxn id="406" idx="0"/>
            <a:endCxn id="407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410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"/>
          <p:cNvCxnSpPr>
            <a:stCxn id="407" idx="5"/>
            <a:endCxn id="410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"/>
          <p:cNvCxnSpPr>
            <a:stCxn id="407" idx="6"/>
            <a:endCxn id="412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"/>
          <p:cNvCxnSpPr>
            <a:stCxn id="407" idx="4"/>
            <a:endCxn id="408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417" name=""/>
          <p:cNvCxnSpPr>
            <a:stCxn id="415" idx="2"/>
            <a:endCxn id="414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415" idx="3"/>
            <a:endCxn id="406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419" name=""/>
          <p:cNvCxnSpPr>
            <a:stCxn id="406" idx="7"/>
            <a:endCxn id="414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420" name=""/>
          <p:cNvCxnSpPr>
            <a:stCxn id="415" idx="7"/>
            <a:endCxn id="412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C G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15" idx="6"/>
            <a:endCxn id="421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28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D330-5C29-4C75-8A17-F47899A96F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36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9" name=""/>
          <p:cNvCxnSpPr>
            <a:stCxn id="436" idx="0"/>
            <a:endCxn id="437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"/>
          <p:cNvCxnSpPr>
            <a:stCxn id="437" idx="5"/>
            <a:endCxn id="440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442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"/>
          <p:cNvCxnSpPr>
            <a:stCxn id="437" idx="6"/>
            <a:endCxn id="442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"/>
          <p:cNvCxnSpPr>
            <a:stCxn id="437" idx="4"/>
            <a:endCxn id="438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447" name=""/>
          <p:cNvCxnSpPr>
            <a:stCxn id="445" idx="2"/>
            <a:endCxn id="444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45" idx="3"/>
            <a:endCxn id="436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449" name=""/>
          <p:cNvCxnSpPr>
            <a:stCxn id="436" idx="7"/>
            <a:endCxn id="444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450" name=""/>
          <p:cNvCxnSpPr>
            <a:stCxn id="445" idx="7"/>
            <a:endCxn id="442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C G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45" idx="6"/>
            <a:endCxn id="451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38" idx="1"/>
            <a:endCxn id="437" idx="4"/>
          </p:cNvCxnSpPr>
          <p:nvPr/>
        </p:nvCxnSpPr>
        <p:spPr>
          <a:xfrm flipH="1" flipV="1">
            <a:off x="2441160" y="1380240"/>
            <a:ext cx="575280" cy="107244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F6A8-4B61-4C47-8BE6-6E29FB86E4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68" idx="0"/>
            <a:endCxn id="469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3" name=""/>
          <p:cNvCxnSpPr>
            <a:stCxn id="469" idx="5"/>
            <a:endCxn id="472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"/>
          <p:cNvCxnSpPr>
            <a:stCxn id="469" idx="6"/>
            <a:endCxn id="474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"/>
          <p:cNvCxnSpPr>
            <a:stCxn id="469" idx="4"/>
            <a:endCxn id="470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479" name=""/>
          <p:cNvCxnSpPr>
            <a:stCxn id="477" idx="2"/>
            <a:endCxn id="47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0" name=""/>
          <p:cNvCxnSpPr>
            <a:stCxn id="477" idx="3"/>
            <a:endCxn id="46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481" name=""/>
          <p:cNvCxnSpPr>
            <a:stCxn id="468" idx="7"/>
            <a:endCxn id="47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482" name=""/>
          <p:cNvCxnSpPr>
            <a:stCxn id="477" idx="7"/>
            <a:endCxn id="47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83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C G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"/>
          <p:cNvCxnSpPr>
            <a:stCxn id="477" idx="6"/>
            <a:endCxn id="483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4440240" y="4572000"/>
            <a:ext cx="1295280" cy="685800"/>
          </a:xfrm>
          <a:prstGeom prst="downArrowCallout">
            <a:avLst>
              <a:gd name="adj1" fmla="val 21757"/>
              <a:gd name="adj2" fmla="val 25926"/>
              <a:gd name="adj3" fmla="val 20370"/>
              <a:gd name="adj4" fmla="val 55556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72FF-F622-417D-A18A-1718D8523D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"/>
          <p:cNvCxnSpPr>
            <a:stCxn id="500" idx="0"/>
            <a:endCxn id="501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5" name=""/>
          <p:cNvCxnSpPr>
            <a:stCxn id="501" idx="5"/>
            <a:endCxn id="504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50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"/>
          <p:cNvCxnSpPr>
            <a:stCxn id="501" idx="6"/>
            <a:endCxn id="506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501" idx="4"/>
            <a:endCxn id="502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511" name=""/>
          <p:cNvCxnSpPr>
            <a:stCxn id="509" idx="2"/>
            <a:endCxn id="50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2" name=""/>
          <p:cNvCxnSpPr>
            <a:stCxn id="509" idx="3"/>
            <a:endCxn id="50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513" name=""/>
          <p:cNvCxnSpPr>
            <a:stCxn id="500" idx="7"/>
            <a:endCxn id="50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514" name=""/>
          <p:cNvCxnSpPr>
            <a:stCxn id="509" idx="7"/>
            <a:endCxn id="50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G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1" name=""/>
          <p:cNvCxnSpPr>
            <a:stCxn id="509" idx="6"/>
            <a:endCxn id="515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2" name=""/>
          <p:cNvCxnSpPr>
            <a:stCxn id="504" idx="1"/>
            <a:endCxn id="501" idx="5"/>
          </p:cNvCxnSpPr>
          <p:nvPr/>
        </p:nvCxnSpPr>
        <p:spPr>
          <a:xfrm flipH="1" flipV="1">
            <a:off x="2548800" y="1336320"/>
            <a:ext cx="1762920" cy="11167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ED85-CE7D-41DF-B260-E9861B6DBD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5" name=""/>
          <p:cNvCxnSpPr>
            <a:stCxn id="532" idx="0"/>
            <a:endCxn id="533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53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"/>
          <p:cNvCxnSpPr>
            <a:stCxn id="533" idx="5"/>
            <a:endCxn id="536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"/>
          <p:cNvCxnSpPr>
            <a:stCxn id="533" idx="6"/>
            <a:endCxn id="538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54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"/>
          <p:cNvCxnSpPr>
            <a:stCxn id="533" idx="4"/>
            <a:endCxn id="534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543" name=""/>
          <p:cNvCxnSpPr>
            <a:stCxn id="541" idx="2"/>
            <a:endCxn id="54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41" idx="3"/>
            <a:endCxn id="53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545" name=""/>
          <p:cNvCxnSpPr>
            <a:stCxn id="532" idx="7"/>
            <a:endCxn id="54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546" name=""/>
          <p:cNvCxnSpPr>
            <a:stCxn id="541" idx="7"/>
            <a:endCxn id="53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47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G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"/>
          <p:cNvCxnSpPr>
            <a:stCxn id="541" idx="6"/>
            <a:endCxn id="547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54" name=""/>
          <p:cNvSpPr/>
          <p:nvPr/>
        </p:nvSpPr>
        <p:spPr>
          <a:xfrm>
            <a:off x="4440240" y="4572000"/>
            <a:ext cx="1295280" cy="685800"/>
          </a:xfrm>
          <a:prstGeom prst="downArrowCallout">
            <a:avLst>
              <a:gd name="adj1" fmla="val 21757"/>
              <a:gd name="adj2" fmla="val 25926"/>
              <a:gd name="adj3" fmla="val 20370"/>
              <a:gd name="adj4" fmla="val 55556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6FA2-C9C6-41E3-894F-6167FE6E12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6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7" name=""/>
          <p:cNvCxnSpPr>
            <a:stCxn id="564" idx="0"/>
            <a:endCxn id="565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56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9" name=""/>
          <p:cNvCxnSpPr>
            <a:stCxn id="565" idx="5"/>
            <a:endCxn id="568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"/>
          <p:cNvCxnSpPr>
            <a:stCxn id="565" idx="6"/>
            <a:endCxn id="570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57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"/>
          <p:cNvCxnSpPr>
            <a:stCxn id="565" idx="4"/>
            <a:endCxn id="566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575" name=""/>
          <p:cNvCxnSpPr>
            <a:stCxn id="573" idx="2"/>
            <a:endCxn id="57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3" idx="3"/>
            <a:endCxn id="56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577" name=""/>
          <p:cNvCxnSpPr>
            <a:stCxn id="564" idx="7"/>
            <a:endCxn id="57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578" name=""/>
          <p:cNvCxnSpPr>
            <a:stCxn id="573" idx="7"/>
            <a:endCxn id="57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"/>
          <p:cNvCxnSpPr>
            <a:stCxn id="573" idx="6"/>
            <a:endCxn id="579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86" name=""/>
          <p:cNvCxnSpPr>
            <a:stCxn id="570" idx="1"/>
            <a:endCxn id="565" idx="6"/>
          </p:cNvCxnSpPr>
          <p:nvPr/>
        </p:nvCxnSpPr>
        <p:spPr>
          <a:xfrm flipH="1" flipV="1">
            <a:off x="2602080" y="1220760"/>
            <a:ext cx="2776680" cy="1232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9DFF-BCA2-455B-B562-D32A74157E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96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"/>
          <p:cNvCxnSpPr>
            <a:stCxn id="596" idx="0"/>
            <a:endCxn id="597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600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"/>
          <p:cNvCxnSpPr>
            <a:stCxn id="597" idx="5"/>
            <a:endCxn id="600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602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"/>
          <p:cNvCxnSpPr>
            <a:stCxn id="597" idx="6"/>
            <a:endCxn id="602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604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"/>
          <p:cNvCxnSpPr>
            <a:stCxn id="597" idx="4"/>
            <a:endCxn id="598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607" name=""/>
          <p:cNvCxnSpPr>
            <a:stCxn id="605" idx="2"/>
            <a:endCxn id="604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8" name=""/>
          <p:cNvCxnSpPr>
            <a:stCxn id="605" idx="3"/>
            <a:endCxn id="596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609" name=""/>
          <p:cNvCxnSpPr>
            <a:stCxn id="596" idx="7"/>
            <a:endCxn id="604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610" name=""/>
          <p:cNvCxnSpPr>
            <a:stCxn id="605" idx="7"/>
            <a:endCxn id="602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11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"/>
          <p:cNvCxnSpPr>
            <a:stCxn id="605" idx="6"/>
            <a:endCxn id="611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602" idx="3"/>
            <a:endCxn id="605" idx="7"/>
          </p:cNvCxnSpPr>
          <p:nvPr/>
        </p:nvCxnSpPr>
        <p:spPr>
          <a:xfrm flipH="1">
            <a:off x="4527000" y="2684520"/>
            <a:ext cx="851400" cy="629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619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8859-2208-47D5-B15F-EB24585DA4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2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"/>
          <p:cNvCxnSpPr>
            <a:stCxn id="628" idx="0"/>
            <a:endCxn id="629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63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"/>
          <p:cNvCxnSpPr>
            <a:stCxn id="629" idx="5"/>
            <a:endCxn id="632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5" name=""/>
          <p:cNvCxnSpPr>
            <a:stCxn id="629" idx="6"/>
            <a:endCxn id="634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"/>
          <p:cNvCxnSpPr>
            <a:stCxn id="629" idx="4"/>
            <a:endCxn id="630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639" name=""/>
          <p:cNvCxnSpPr>
            <a:stCxn id="637" idx="2"/>
            <a:endCxn id="63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40" name=""/>
          <p:cNvCxnSpPr>
            <a:stCxn id="637" idx="3"/>
            <a:endCxn id="62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641" name=""/>
          <p:cNvCxnSpPr>
            <a:stCxn id="628" idx="7"/>
            <a:endCxn id="63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642" name=""/>
          <p:cNvCxnSpPr>
            <a:stCxn id="637" idx="7"/>
            <a:endCxn id="63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9" name=""/>
          <p:cNvCxnSpPr>
            <a:stCxn id="637" idx="6"/>
            <a:endCxn id="643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4440240" y="4572000"/>
            <a:ext cx="1295280" cy="685800"/>
          </a:xfrm>
          <a:prstGeom prst="downArrowCallout">
            <a:avLst>
              <a:gd name="adj1" fmla="val 21757"/>
              <a:gd name="adj2" fmla="val 25926"/>
              <a:gd name="adj3" fmla="val 20370"/>
              <a:gd name="adj4" fmla="val 55556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4E60-98B5-45D3-B6DA-A0A23411DF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7" idx="0"/>
            <a:endCxn id="98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8" idx="5"/>
            <a:endCxn id="101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8" idx="6"/>
            <a:endCxn id="103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8" idx="4"/>
            <a:endCxn id="99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106" idx="2"/>
            <a:endCxn id="10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06" idx="3"/>
            <a:endCxn id="97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97" idx="7"/>
            <a:endCxn id="105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6" idx="7"/>
            <a:endCxn id="103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44920" y="4572000"/>
            <a:ext cx="1295640" cy="685800"/>
          </a:xfrm>
          <a:prstGeom prst="downArrowCallout">
            <a:avLst>
              <a:gd name="adj1" fmla="val 21763"/>
              <a:gd name="adj2" fmla="val 25933"/>
              <a:gd name="adj3" fmla="val 20370"/>
              <a:gd name="adj4" fmla="val 55556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8880" y="1085760"/>
            <a:ext cx="191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distance fro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21" idx="1"/>
            <a:endCxn id="120" idx="3"/>
          </p:cNvCxnSpPr>
          <p:nvPr/>
        </p:nvCxnSpPr>
        <p:spPr>
          <a:xfrm rot="10800000">
            <a:off x="2980440" y="1036080"/>
            <a:ext cx="1018440" cy="234000"/>
          </a:xfrm>
          <a:prstGeom prst="curvedConnector5">
            <a:avLst>
              <a:gd name="adj1" fmla="val 49893"/>
              <a:gd name="adj2" fmla="val 49922"/>
              <a:gd name="adj3" fmla="val 49893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61A5-D28B-47B3-A03B-547DB76D98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6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3" name=""/>
          <p:cNvCxnSpPr>
            <a:stCxn id="660" idx="0"/>
            <a:endCxn id="661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5" name=""/>
          <p:cNvCxnSpPr>
            <a:stCxn id="661" idx="5"/>
            <a:endCxn id="664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66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7" name=""/>
          <p:cNvCxnSpPr>
            <a:stCxn id="661" idx="6"/>
            <a:endCxn id="666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"/>
          <p:cNvCxnSpPr>
            <a:stCxn id="661" idx="4"/>
            <a:endCxn id="662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671" name=""/>
          <p:cNvCxnSpPr>
            <a:stCxn id="669" idx="2"/>
            <a:endCxn id="66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69" idx="3"/>
            <a:endCxn id="66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673" name=""/>
          <p:cNvCxnSpPr>
            <a:stCxn id="660" idx="7"/>
            <a:endCxn id="66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674" name=""/>
          <p:cNvCxnSpPr>
            <a:stCxn id="669" idx="7"/>
            <a:endCxn id="66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1" name=""/>
          <p:cNvCxnSpPr>
            <a:stCxn id="669" idx="6"/>
            <a:endCxn id="675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2" name=""/>
          <p:cNvCxnSpPr>
            <a:stCxn id="669" idx="2"/>
            <a:endCxn id="66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5FC1-0E27-4C83-BDDA-6EC988D6FE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9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5" name=""/>
          <p:cNvCxnSpPr>
            <a:stCxn id="692" idx="0"/>
            <a:endCxn id="693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69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7" name=""/>
          <p:cNvCxnSpPr>
            <a:stCxn id="693" idx="5"/>
            <a:endCxn id="696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9" name=""/>
          <p:cNvCxnSpPr>
            <a:stCxn id="693" idx="6"/>
            <a:endCxn id="698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70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stCxn id="693" idx="4"/>
            <a:endCxn id="694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703" name=""/>
          <p:cNvCxnSpPr>
            <a:stCxn id="701" idx="2"/>
            <a:endCxn id="70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04" name=""/>
          <p:cNvCxnSpPr>
            <a:stCxn id="701" idx="3"/>
            <a:endCxn id="69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705" name=""/>
          <p:cNvCxnSpPr>
            <a:stCxn id="692" idx="7"/>
            <a:endCxn id="70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706" name=""/>
          <p:cNvCxnSpPr>
            <a:stCxn id="701" idx="7"/>
            <a:endCxn id="69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7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3" name=""/>
          <p:cNvCxnSpPr>
            <a:stCxn id="701" idx="6"/>
            <a:endCxn id="707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4" name=""/>
          <p:cNvCxnSpPr>
            <a:stCxn id="692" idx="7"/>
            <a:endCxn id="70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715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D821-0D41-49D9-8ADD-94E2645576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7" name=""/>
          <p:cNvCxnSpPr>
            <a:stCxn id="724" idx="0"/>
            <a:endCxn id="725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9" name=""/>
          <p:cNvCxnSpPr>
            <a:stCxn id="725" idx="5"/>
            <a:endCxn id="728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1" name=""/>
          <p:cNvCxnSpPr>
            <a:stCxn id="725" idx="6"/>
            <a:endCxn id="730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73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stCxn id="725" idx="4"/>
            <a:endCxn id="726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735" name=""/>
          <p:cNvCxnSpPr>
            <a:stCxn id="733" idx="2"/>
            <a:endCxn id="73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33" idx="3"/>
            <a:endCxn id="72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737" name=""/>
          <p:cNvCxnSpPr>
            <a:stCxn id="724" idx="7"/>
            <a:endCxn id="73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738" name=""/>
          <p:cNvCxnSpPr>
            <a:stCxn id="733" idx="7"/>
            <a:endCxn id="73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5" name=""/>
          <p:cNvCxnSpPr>
            <a:stCxn id="733" idx="6"/>
            <a:endCxn id="739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4440240" y="4572000"/>
            <a:ext cx="1295280" cy="685800"/>
          </a:xfrm>
          <a:prstGeom prst="downArrowCallout">
            <a:avLst>
              <a:gd name="adj1" fmla="val 21757"/>
              <a:gd name="adj2" fmla="val 25926"/>
              <a:gd name="adj3" fmla="val 20370"/>
              <a:gd name="adj4" fmla="val 55556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29A2-2707-41C9-950C-651AB1C0A6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56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9" name=""/>
          <p:cNvCxnSpPr>
            <a:stCxn id="756" idx="0"/>
            <a:endCxn id="757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760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1" name=""/>
          <p:cNvCxnSpPr>
            <a:stCxn id="757" idx="5"/>
            <a:endCxn id="760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762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3" name=""/>
          <p:cNvCxnSpPr>
            <a:stCxn id="757" idx="6"/>
            <a:endCxn id="762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764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6" name=""/>
          <p:cNvCxnSpPr>
            <a:stCxn id="757" idx="4"/>
            <a:endCxn id="758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767" name=""/>
          <p:cNvCxnSpPr>
            <a:stCxn id="765" idx="2"/>
            <a:endCxn id="764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65" idx="3"/>
            <a:endCxn id="756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769" name=""/>
          <p:cNvCxnSpPr>
            <a:stCxn id="756" idx="7"/>
            <a:endCxn id="764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770" name=""/>
          <p:cNvCxnSpPr>
            <a:stCxn id="765" idx="7"/>
            <a:endCxn id="762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71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"/>
          <p:cNvCxnSpPr>
            <a:stCxn id="765" idx="6"/>
            <a:endCxn id="771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8" name=""/>
          <p:cNvCxnSpPr>
            <a:stCxn id="764" idx="6"/>
            <a:endCxn id="765" idx="2"/>
          </p:cNvCxnSpPr>
          <p:nvPr/>
        </p:nvCxnSpPr>
        <p:spPr>
          <a:xfrm>
            <a:off x="3284280" y="3428640"/>
            <a:ext cx="97524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779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EDEF-0149-48B4-B469-3E2B31BF22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1" name=""/>
          <p:cNvCxnSpPr>
            <a:stCxn id="788" idx="0"/>
            <a:endCxn id="789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79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"/>
          <p:cNvCxnSpPr>
            <a:stCxn id="789" idx="5"/>
            <a:endCxn id="792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5" name=""/>
          <p:cNvCxnSpPr>
            <a:stCxn id="789" idx="6"/>
            <a:endCxn id="794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79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8" name=""/>
          <p:cNvCxnSpPr>
            <a:stCxn id="789" idx="4"/>
            <a:endCxn id="790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799" name=""/>
          <p:cNvCxnSpPr>
            <a:stCxn id="797" idx="2"/>
            <a:endCxn id="79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00" name=""/>
          <p:cNvCxnSpPr>
            <a:stCxn id="797" idx="3"/>
            <a:endCxn id="78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801" name=""/>
          <p:cNvCxnSpPr>
            <a:stCxn id="788" idx="7"/>
            <a:endCxn id="79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802" name=""/>
          <p:cNvCxnSpPr>
            <a:stCxn id="797" idx="7"/>
            <a:endCxn id="79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9" name=""/>
          <p:cNvCxnSpPr>
            <a:stCxn id="797" idx="6"/>
            <a:endCxn id="803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0" name=""/>
          <p:cNvCxnSpPr>
            <a:stCxn id="788" idx="6"/>
            <a:endCxn id="797" idx="3"/>
          </p:cNvCxnSpPr>
          <p:nvPr/>
        </p:nvCxnSpPr>
        <p:spPr>
          <a:xfrm flipV="1">
            <a:off x="2598840" y="3544560"/>
            <a:ext cx="1713600" cy="79920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811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474F-B041-4D1B-9B41-D1BA6F3A24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2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"/>
          <p:cNvCxnSpPr>
            <a:stCxn id="820" idx="0"/>
            <a:endCxn id="821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82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"/>
          <p:cNvCxnSpPr>
            <a:stCxn id="821" idx="5"/>
            <a:endCxn id="824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82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7" name=""/>
          <p:cNvCxnSpPr>
            <a:stCxn id="821" idx="6"/>
            <a:endCxn id="826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0" name=""/>
          <p:cNvCxnSpPr>
            <a:stCxn id="821" idx="4"/>
            <a:endCxn id="822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831" name=""/>
          <p:cNvCxnSpPr>
            <a:stCxn id="829" idx="2"/>
            <a:endCxn id="82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32" name=""/>
          <p:cNvCxnSpPr>
            <a:stCxn id="829" idx="3"/>
            <a:endCxn id="82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833" name=""/>
          <p:cNvCxnSpPr>
            <a:stCxn id="820" idx="7"/>
            <a:endCxn id="82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834" name=""/>
          <p:cNvCxnSpPr>
            <a:stCxn id="829" idx="7"/>
            <a:endCxn id="82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35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1" name=""/>
          <p:cNvCxnSpPr>
            <a:stCxn id="829" idx="6"/>
            <a:endCxn id="835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26" idx="3"/>
            <a:endCxn id="829" idx="7"/>
          </p:cNvCxnSpPr>
          <p:nvPr/>
        </p:nvCxnSpPr>
        <p:spPr>
          <a:xfrm flipH="1">
            <a:off x="4527000" y="2684520"/>
            <a:ext cx="851400" cy="629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F808-54DA-4B0A-BF7D-35AABA7F2D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5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5" name=""/>
          <p:cNvCxnSpPr>
            <a:stCxn id="852" idx="0"/>
            <a:endCxn id="853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7" name=""/>
          <p:cNvCxnSpPr>
            <a:stCxn id="853" idx="5"/>
            <a:endCxn id="856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85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9" name=""/>
          <p:cNvCxnSpPr>
            <a:stCxn id="853" idx="6"/>
            <a:endCxn id="858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86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2" name=""/>
          <p:cNvCxnSpPr>
            <a:stCxn id="853" idx="4"/>
            <a:endCxn id="854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863" name=""/>
          <p:cNvCxnSpPr>
            <a:stCxn id="861" idx="2"/>
            <a:endCxn id="86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64" name=""/>
          <p:cNvCxnSpPr>
            <a:stCxn id="861" idx="3"/>
            <a:endCxn id="85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865" name=""/>
          <p:cNvCxnSpPr>
            <a:stCxn id="852" idx="7"/>
            <a:endCxn id="86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866" name=""/>
          <p:cNvCxnSpPr>
            <a:stCxn id="861" idx="7"/>
            <a:endCxn id="85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67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"/>
          <p:cNvCxnSpPr>
            <a:stCxn id="861" idx="6"/>
            <a:endCxn id="867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67" idx="3"/>
            <a:endCxn id="861" idx="6"/>
          </p:cNvCxnSpPr>
          <p:nvPr/>
        </p:nvCxnSpPr>
        <p:spPr>
          <a:xfrm flipH="1">
            <a:off x="4579200" y="1944360"/>
            <a:ext cx="2780280" cy="148500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875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7311960" y="1674720"/>
            <a:ext cx="649440" cy="304920"/>
            <a:chOff x="7311960" y="1674720"/>
            <a:chExt cx="649440" cy="304920"/>
          </a:xfrm>
        </p:grpSpPr>
        <p:sp>
          <p:nvSpPr>
            <p:cNvPr id="883" name=""/>
            <p:cNvSpPr/>
            <p:nvPr/>
          </p:nvSpPr>
          <p:spPr>
            <a:xfrm>
              <a:off x="7311960" y="1674720"/>
              <a:ext cx="304920" cy="304920"/>
            </a:xfrm>
            <a:prstGeom prst="ellipse">
              <a:avLst/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72320" y="169848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02F0-3ED6-4C14-9B25-8D7C2818F5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87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0" name=""/>
          <p:cNvCxnSpPr>
            <a:stCxn id="887" idx="0"/>
            <a:endCxn id="888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891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2" name=""/>
          <p:cNvCxnSpPr>
            <a:stCxn id="888" idx="5"/>
            <a:endCxn id="891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4" name=""/>
          <p:cNvCxnSpPr>
            <a:stCxn id="888" idx="6"/>
            <a:endCxn id="893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7" name=""/>
          <p:cNvCxnSpPr>
            <a:stCxn id="888" idx="4"/>
            <a:endCxn id="889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898" name=""/>
          <p:cNvCxnSpPr>
            <a:stCxn id="896" idx="2"/>
            <a:endCxn id="89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99" name=""/>
          <p:cNvCxnSpPr>
            <a:stCxn id="896" idx="3"/>
            <a:endCxn id="887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900" name=""/>
          <p:cNvCxnSpPr>
            <a:stCxn id="887" idx="7"/>
            <a:endCxn id="895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901" name=""/>
          <p:cNvCxnSpPr>
            <a:stCxn id="896" idx="7"/>
            <a:endCxn id="893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2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7" name=""/>
          <p:cNvCxnSpPr>
            <a:stCxn id="896" idx="6"/>
            <a:endCxn id="908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4440240" y="4572000"/>
            <a:ext cx="1295280" cy="685800"/>
          </a:xfrm>
          <a:prstGeom prst="downArrowCallout">
            <a:avLst>
              <a:gd name="adj1" fmla="val 21757"/>
              <a:gd name="adj2" fmla="val 25926"/>
              <a:gd name="adj3" fmla="val 20370"/>
              <a:gd name="adj4" fmla="val 55556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672320" y="16984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800C-6BAF-41A0-82E8-F005C0C87C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2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3" name=""/>
          <p:cNvCxnSpPr>
            <a:stCxn id="920" idx="0"/>
            <a:endCxn id="921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5" name=""/>
          <p:cNvCxnSpPr>
            <a:stCxn id="921" idx="5"/>
            <a:endCxn id="924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92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7" name=""/>
          <p:cNvCxnSpPr>
            <a:stCxn id="921" idx="6"/>
            <a:endCxn id="926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92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0" name=""/>
          <p:cNvCxnSpPr>
            <a:stCxn id="921" idx="4"/>
            <a:endCxn id="922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931" name=""/>
          <p:cNvCxnSpPr>
            <a:stCxn id="929" idx="2"/>
            <a:endCxn id="92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2" name=""/>
          <p:cNvCxnSpPr>
            <a:stCxn id="929" idx="3"/>
            <a:endCxn id="92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933" name=""/>
          <p:cNvCxnSpPr>
            <a:stCxn id="920" idx="7"/>
            <a:endCxn id="92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934" name=""/>
          <p:cNvCxnSpPr>
            <a:stCxn id="929" idx="7"/>
            <a:endCxn id="92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35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1" name=""/>
          <p:cNvCxnSpPr>
            <a:stCxn id="929" idx="6"/>
            <a:endCxn id="935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2" name=""/>
          <p:cNvCxnSpPr>
            <a:stCxn id="935" idx="3"/>
            <a:endCxn id="929" idx="6"/>
          </p:cNvCxnSpPr>
          <p:nvPr/>
        </p:nvCxnSpPr>
        <p:spPr>
          <a:xfrm flipH="1">
            <a:off x="4579200" y="1944360"/>
            <a:ext cx="2780280" cy="148500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672320" y="16984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1948-1928-453E-8900-FCCC249613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53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6" name=""/>
          <p:cNvCxnSpPr>
            <a:stCxn id="953" idx="0"/>
            <a:endCxn id="954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957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8" name=""/>
          <p:cNvCxnSpPr>
            <a:stCxn id="954" idx="5"/>
            <a:endCxn id="957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959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0" name=""/>
          <p:cNvCxnSpPr>
            <a:stCxn id="954" idx="6"/>
            <a:endCxn id="959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3" name=""/>
          <p:cNvCxnSpPr>
            <a:stCxn id="954" idx="4"/>
            <a:endCxn id="955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964" name=""/>
          <p:cNvCxnSpPr>
            <a:stCxn id="962" idx="2"/>
            <a:endCxn id="961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5" name=""/>
          <p:cNvCxnSpPr>
            <a:stCxn id="962" idx="3"/>
            <a:endCxn id="953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966" name=""/>
          <p:cNvCxnSpPr>
            <a:stCxn id="953" idx="7"/>
            <a:endCxn id="961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967" name=""/>
          <p:cNvCxnSpPr>
            <a:stCxn id="962" idx="7"/>
            <a:endCxn id="959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8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4" name=""/>
          <p:cNvCxnSpPr>
            <a:stCxn id="962" idx="6"/>
            <a:endCxn id="968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75" name=""/>
          <p:cNvSpPr/>
          <p:nvPr/>
        </p:nvSpPr>
        <p:spPr>
          <a:xfrm>
            <a:off x="4440240" y="4572000"/>
            <a:ext cx="1295280" cy="685800"/>
          </a:xfrm>
          <a:prstGeom prst="downArrowCallout">
            <a:avLst>
              <a:gd name="adj1" fmla="val 21757"/>
              <a:gd name="adj2" fmla="val 25926"/>
              <a:gd name="adj3" fmla="val 20370"/>
              <a:gd name="adj4" fmla="val 55556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7672320" y="16984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63E8-1C77-48C4-81FC-825C144F3C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5" idx="0"/>
            <a:endCxn id="126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6" idx="5"/>
            <a:endCxn id="129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6" idx="6"/>
            <a:endCxn id="131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6" idx="4"/>
            <a:endCxn id="127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4" idx="2"/>
            <a:endCxn id="133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4" idx="3"/>
            <a:endCxn id="125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5" idx="7"/>
            <a:endCxn id="133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4" idx="7"/>
            <a:endCxn id="131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/>
          <p:nvPr/>
        </p:nvCxnSpPr>
        <p:spPr>
          <a:xfrm flipV="1">
            <a:off x="2437920" y="1370880"/>
            <a:ext cx="3960" cy="280260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cxnSp>
        <p:nvCxnSpPr>
          <p:cNvPr id="147" name=""/>
          <p:cNvCxnSpPr/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4191120"/>
            <a:ext cx="685800" cy="304560"/>
            <a:chOff x="1905120" y="4191120"/>
            <a:chExt cx="685800" cy="304560"/>
          </a:xfrm>
        </p:grpSpPr>
        <p:sp>
          <p:nvSpPr>
            <p:cNvPr id="150" name=""/>
            <p:cNvSpPr/>
            <p:nvPr/>
          </p:nvSpPr>
          <p:spPr>
            <a:xfrm>
              <a:off x="2286000" y="4191120"/>
              <a:ext cx="304920" cy="304560"/>
            </a:xfrm>
            <a:prstGeom prst="ellipse">
              <a:avLst/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5120" y="4233960"/>
              <a:ext cx="2887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C373-008B-4F39-B9FF-2958C98636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86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9" name=""/>
          <p:cNvCxnSpPr>
            <a:stCxn id="986" idx="0"/>
            <a:endCxn id="987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990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1" name=""/>
          <p:cNvCxnSpPr>
            <a:stCxn id="987" idx="5"/>
            <a:endCxn id="990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992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3" name=""/>
          <p:cNvCxnSpPr>
            <a:stCxn id="987" idx="6"/>
            <a:endCxn id="992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994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6" name=""/>
          <p:cNvCxnSpPr>
            <a:stCxn id="987" idx="4"/>
            <a:endCxn id="988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997" name=""/>
          <p:cNvCxnSpPr>
            <a:stCxn id="995" idx="2"/>
            <a:endCxn id="994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98" name=""/>
          <p:cNvCxnSpPr>
            <a:stCxn id="995" idx="3"/>
            <a:endCxn id="986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999" name=""/>
          <p:cNvCxnSpPr>
            <a:stCxn id="986" idx="7"/>
            <a:endCxn id="994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1000" name=""/>
          <p:cNvCxnSpPr>
            <a:stCxn id="995" idx="7"/>
            <a:endCxn id="992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1001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2" name=""/>
          <p:cNvCxnSpPr>
            <a:stCxn id="995" idx="6"/>
            <a:endCxn id="1001" idx="3"/>
          </p:cNvCxnSpPr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619360" y="3321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262400" y="29844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672320" y="16984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998880" y="1085760"/>
            <a:ext cx="191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distance fro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2" name=""/>
          <p:cNvCxnSpPr>
            <a:stCxn id="1011" idx="1"/>
          </p:cNvCxnSpPr>
          <p:nvPr/>
        </p:nvCxnSpPr>
        <p:spPr>
          <a:xfrm rot="10800000">
            <a:off x="2980440" y="1036080"/>
            <a:ext cx="1018440" cy="234000"/>
          </a:xfrm>
          <a:prstGeom prst="curvedConnector5">
            <a:avLst>
              <a:gd name="adj1" fmla="val 49893"/>
              <a:gd name="adj2" fmla="val 49922"/>
              <a:gd name="adj3" fmla="val 49893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B509-08E3-4048-8D4D-FAAF09F59E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4" idx="0"/>
            <a:endCxn id="155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5" idx="5"/>
            <a:endCxn id="158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6"/>
            <a:endCxn id="160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55" idx="4"/>
            <a:endCxn id="156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163" idx="2"/>
            <a:endCxn id="16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63" idx="3"/>
            <a:endCxn id="15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4" idx="7"/>
            <a:endCxn id="16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3" idx="7"/>
            <a:endCxn id="16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F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6" idx="1"/>
            <a:endCxn id="155" idx="4"/>
          </p:cNvCxnSpPr>
          <p:nvPr/>
        </p:nvCxnSpPr>
        <p:spPr>
          <a:xfrm flipH="1" flipV="1">
            <a:off x="2441160" y="1380240"/>
            <a:ext cx="575280" cy="107244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cxnSp>
        <p:nvCxnSpPr>
          <p:cNvPr id="176" name=""/>
          <p:cNvCxnSpPr/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7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971800" y="2413080"/>
            <a:ext cx="665280" cy="304560"/>
            <a:chOff x="2971800" y="2413080"/>
            <a:chExt cx="665280" cy="304560"/>
          </a:xfrm>
        </p:grpSpPr>
        <p:sp>
          <p:nvSpPr>
            <p:cNvPr id="180" name=""/>
            <p:cNvSpPr/>
            <p:nvPr/>
          </p:nvSpPr>
          <p:spPr>
            <a:xfrm>
              <a:off x="2971800" y="2413080"/>
              <a:ext cx="304920" cy="304560"/>
            </a:xfrm>
            <a:prstGeom prst="ellipse">
              <a:avLst/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48000" y="2444760"/>
              <a:ext cx="289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6D76-63E3-4C30-A2DC-27FAEA2855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4" idx="0"/>
            <a:endCxn id="185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5" idx="5"/>
            <a:endCxn id="188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85" idx="6"/>
            <a:endCxn id="190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5" idx="4"/>
            <a:endCxn id="186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195" name=""/>
          <p:cNvCxnSpPr>
            <a:stCxn id="193" idx="2"/>
            <a:endCxn id="19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93" idx="3"/>
            <a:endCxn id="18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4" idx="7"/>
            <a:endCxn id="19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93" idx="7"/>
            <a:endCxn id="19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F B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188" idx="1"/>
            <a:endCxn id="185" idx="5"/>
          </p:cNvCxnSpPr>
          <p:nvPr/>
        </p:nvCxnSpPr>
        <p:spPr>
          <a:xfrm flipH="1" flipV="1">
            <a:off x="2548800" y="1336320"/>
            <a:ext cx="1762920" cy="11167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cxnSp>
        <p:nvCxnSpPr>
          <p:cNvPr id="206" name=""/>
          <p:cNvCxnSpPr/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273560" y="2413080"/>
            <a:ext cx="665280" cy="304560"/>
            <a:chOff x="4273560" y="2413080"/>
            <a:chExt cx="665280" cy="304560"/>
          </a:xfrm>
        </p:grpSpPr>
        <p:sp>
          <p:nvSpPr>
            <p:cNvPr id="211" name=""/>
            <p:cNvSpPr/>
            <p:nvPr/>
          </p:nvSpPr>
          <p:spPr>
            <a:xfrm>
              <a:off x="4273560" y="2413080"/>
              <a:ext cx="304920" cy="304560"/>
            </a:xfrm>
            <a:prstGeom prst="ellipse">
              <a:avLst/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49760" y="245736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74DB-283F-4557-891B-D6B4921873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"/>
          <p:cNvCxnSpPr>
            <a:stCxn id="215" idx="0"/>
            <a:endCxn id="216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219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>
            <a:stCxn id="216" idx="5"/>
            <a:endCxn id="219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6" idx="6"/>
            <a:endCxn id="221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6" idx="4"/>
            <a:endCxn id="217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226" name=""/>
          <p:cNvCxnSpPr>
            <a:stCxn id="224" idx="2"/>
            <a:endCxn id="223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7" name=""/>
          <p:cNvCxnSpPr>
            <a:stCxn id="224" idx="3"/>
            <a:endCxn id="215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215" idx="7"/>
            <a:endCxn id="223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224" idx="7"/>
            <a:endCxn id="221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F B C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21" idx="1"/>
            <a:endCxn id="216" idx="6"/>
          </p:cNvCxnSpPr>
          <p:nvPr/>
        </p:nvCxnSpPr>
        <p:spPr>
          <a:xfrm flipH="1" flipV="1">
            <a:off x="2602080" y="1220760"/>
            <a:ext cx="2776680" cy="1232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cxnSp>
        <p:nvCxnSpPr>
          <p:cNvPr id="237" name=""/>
          <p:cNvCxnSpPr/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338800" y="2071800"/>
            <a:ext cx="304920" cy="645840"/>
            <a:chOff x="5338800" y="2071800"/>
            <a:chExt cx="304920" cy="645840"/>
          </a:xfrm>
        </p:grpSpPr>
        <p:sp>
          <p:nvSpPr>
            <p:cNvPr id="243" name=""/>
            <p:cNvSpPr/>
            <p:nvPr/>
          </p:nvSpPr>
          <p:spPr>
            <a:xfrm>
              <a:off x="5338800" y="2413080"/>
              <a:ext cx="304920" cy="304560"/>
            </a:xfrm>
            <a:prstGeom prst="ellipse">
              <a:avLst/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40240" y="2071800"/>
              <a:ext cx="289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327F-51E9-4A9F-822A-5BBCE2DFBC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"/>
          <p:cNvCxnSpPr>
            <a:stCxn id="247" idx="0"/>
            <a:endCxn id="248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8" idx="5"/>
            <a:endCxn id="251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48" idx="6"/>
            <a:endCxn id="253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"/>
          <p:cNvCxnSpPr>
            <a:stCxn id="248" idx="4"/>
            <a:endCxn id="249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258" name=""/>
          <p:cNvCxnSpPr>
            <a:stCxn id="256" idx="2"/>
            <a:endCxn id="25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56" idx="3"/>
            <a:endCxn id="247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47" idx="7"/>
            <a:endCxn id="255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6" idx="7"/>
            <a:endCxn id="253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62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F B C G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27640" y="4572000"/>
            <a:ext cx="1295280" cy="685800"/>
          </a:xfrm>
          <a:prstGeom prst="downArrowCallout">
            <a:avLst>
              <a:gd name="adj1" fmla="val 21757"/>
              <a:gd name="adj2" fmla="val 25926"/>
              <a:gd name="adj3" fmla="val 20370"/>
              <a:gd name="adj4" fmla="val 55556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/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690F-F82E-472E-8B22-898BD8F65B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7" idx="0"/>
            <a:endCxn id="278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>
            <a:stCxn id="278" idx="5"/>
            <a:endCxn id="281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78" idx="6"/>
            <a:endCxn id="283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285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78" idx="4"/>
            <a:endCxn id="279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288" name=""/>
          <p:cNvCxnSpPr>
            <a:stCxn id="286" idx="2"/>
            <a:endCxn id="28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9" name=""/>
          <p:cNvCxnSpPr>
            <a:stCxn id="286" idx="3"/>
            <a:endCxn id="277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90" name=""/>
          <p:cNvCxnSpPr>
            <a:stCxn id="277" idx="7"/>
            <a:endCxn id="285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91" name=""/>
          <p:cNvCxnSpPr>
            <a:stCxn id="286" idx="7"/>
            <a:endCxn id="283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92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B C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77" idx="0"/>
            <a:endCxn id="278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cxnSp>
        <p:nvCxnSpPr>
          <p:cNvPr id="299" name=""/>
          <p:cNvCxnSpPr/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00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A46A-F7E6-4BA6-ACAA-CDB5572FFF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Bread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9240" y="1066680"/>
            <a:ext cx="30456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0"/>
            <a:endCxn id="308" idx="4"/>
          </p:cNvCxnSpPr>
          <p:nvPr/>
        </p:nvCxnSpPr>
        <p:spPr>
          <a:xfrm flipV="1">
            <a:off x="2437920" y="1380600"/>
            <a:ext cx="3960" cy="280296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08" idx="5"/>
            <a:endCxn id="311" idx="1"/>
          </p:cNvCxnSpPr>
          <p:nvPr/>
        </p:nvCxnSpPr>
        <p:spPr>
          <a:xfrm>
            <a:off x="2549160" y="1336680"/>
            <a:ext cx="1762920" cy="111672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08" idx="6"/>
            <a:endCxn id="313" idx="1"/>
          </p:cNvCxnSpPr>
          <p:nvPr/>
        </p:nvCxnSpPr>
        <p:spPr>
          <a:xfrm>
            <a:off x="2602080" y="1220760"/>
            <a:ext cx="2776680" cy="123228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"/>
          <p:cNvCxnSpPr>
            <a:stCxn id="308" idx="4"/>
            <a:endCxn id="309" idx="1"/>
          </p:cNvCxnSpPr>
          <p:nvPr/>
        </p:nvCxnSpPr>
        <p:spPr>
          <a:xfrm>
            <a:off x="2441520" y="1380600"/>
            <a:ext cx="575280" cy="1072440"/>
          </a:xfrm>
          <a:prstGeom prst="straightConnector1">
            <a:avLst/>
          </a:prstGeom>
          <a:ln w="19080">
            <a:solidFill>
              <a:srgbClr val="006600"/>
            </a:solidFill>
            <a:miter/>
          </a:ln>
        </p:spPr>
      </p:cxnSp>
      <p:cxnSp>
        <p:nvCxnSpPr>
          <p:cNvPr id="318" name=""/>
          <p:cNvCxnSpPr>
            <a:stCxn id="316" idx="2"/>
            <a:endCxn id="31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6" idx="3"/>
            <a:endCxn id="307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07" idx="7"/>
            <a:endCxn id="315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316" idx="7"/>
            <a:endCxn id="313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22" name=""/>
          <p:cNvSpPr/>
          <p:nvPr/>
        </p:nvSpPr>
        <p:spPr>
          <a:xfrm>
            <a:off x="7315200" y="16765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38480" y="5410080"/>
            <a:ext cx="4191120" cy="38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:  B C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07" idx="7"/>
            <a:endCxn id="315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cxnSp>
        <p:nvCxnSpPr>
          <p:cNvPr id="329" name=""/>
          <p:cNvCxnSpPr/>
          <p:nvPr/>
        </p:nvCxnSpPr>
        <p:spPr>
          <a:xfrm flipV="1">
            <a:off x="4579560" y="1944000"/>
            <a:ext cx="2780280" cy="1485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2692440" y="912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05120" y="423396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348000" y="244476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49760" y="2457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40240" y="2071800"/>
            <a:ext cx="289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619360" y="3279600"/>
            <a:ext cx="657360" cy="304920"/>
            <a:chOff x="2619360" y="3279600"/>
            <a:chExt cx="657360" cy="304920"/>
          </a:xfrm>
        </p:grpSpPr>
        <p:sp>
          <p:nvSpPr>
            <p:cNvPr id="336" name=""/>
            <p:cNvSpPr/>
            <p:nvPr/>
          </p:nvSpPr>
          <p:spPr>
            <a:xfrm>
              <a:off x="2971800" y="3279600"/>
              <a:ext cx="304920" cy="304920"/>
            </a:xfrm>
            <a:prstGeom prst="ellipse">
              <a:avLst/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19360" y="332100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5440" y="2166840"/>
            <a:ext cx="1716120" cy="62712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5544-34D5-4697-A9F1-8EA2B5A799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1-04-11T01:02:38Z</dcterms:modified>
  <cp:revision>601</cp:revision>
  <dc:subject/>
  <dc:title>Trees</dc:title>
</cp:coreProperties>
</file>